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E63D-1A03-4D96-8811-C4BD96955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420F-7900-471C-9AD6-C78841ED8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75D8-496C-4B30-ACF4-A6C33CA13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CE0E-6757-4C03-880F-C3A574EE2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40380-59F7-42B4-B80A-C3D865F6B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95B47-A2D3-455B-A0AE-786B07CDB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A92F4-E1DF-44C3-B42D-F1F8290D0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7EACB-59B3-4451-9B13-9E0EC735C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766BC-420B-471A-9FB7-AA05AD6C2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0DCFE-6CE1-4D5C-9899-F1C0402F9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61B52-9A55-40E1-AD2A-367952C2F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BF4F-4884-47FF-B62A-343E1F4D6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75167-B3FB-4750-A6C0-75B1F869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FC0E9-DF7D-4407-921B-9418A3F9E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FCFE7-B1BD-4AB4-8B2D-07706EBA4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290AD-4F22-46B8-94B2-9EA75B3E0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10C69-017F-4B8E-AA26-462C137DA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56A5-7647-4A15-8148-21993BFD5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4244-5705-41FE-8023-A0B397F63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96D4-A9D7-46C3-8AF1-2A9DE378A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7836-2CFA-4BE7-A9B8-029538E3B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4CCF-9BC7-4619-B783-D327951A1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4544-594C-4F31-A8AC-E5916B64B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9C6D-D296-413F-AC9A-D2CEE1585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35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C19E7-967D-4A92-BC58-DA44E25CF968}" type="datetime"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" name="Picture 45" descr="Netline"/>
          <p:cNvPicPr/>
          <p:nvPr/>
        </p:nvPicPr>
        <p:blipFill>
          <a:blip r:embed="rId2"/>
          <a:stretch/>
        </p:blipFill>
        <p:spPr>
          <a:xfrm>
            <a:off x="7908840" y="6364440"/>
            <a:ext cx="1127160" cy="377640"/>
          </a:xfrm>
          <a:prstGeom prst="rect">
            <a:avLst/>
          </a:prstGeom>
          <a:ln w="0">
            <a:noFill/>
          </a:ln>
        </p:spPr>
      </p:pic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901920" y="-525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2734A-3236-42B8-A57C-D46647BDED61}" type="slidenum">
              <a:rPr b="0" lang="de-CH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2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Rectangle 2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Group 22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Rectangle 7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Rectangle 16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6" name="Picture 28" descr="Netline"/>
          <p:cNvPicPr/>
          <p:nvPr/>
        </p:nvPicPr>
        <p:blipFill>
          <a:blip r:embed="rId2"/>
          <a:stretch/>
        </p:blipFill>
        <p:spPr>
          <a:xfrm>
            <a:off x="6948360" y="6066000"/>
            <a:ext cx="2124360" cy="711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E29E9-4272-405E-98DA-20EA1E404FD7}" type="slidenum">
              <a:rPr b="0" lang="de-CH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5000" spc="-1" strike="noStrike">
                <a:solidFill>
                  <a:srgbClr val="ffffff"/>
                </a:solidFill>
                <a:latin typeface="Arial Narrow"/>
              </a:rPr>
              <a:t>GPS Logger Project </a:t>
            </a:r>
            <a:endParaRPr b="0" lang="en-US" sz="5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9" name="Picture 7" descr="asog_event_partner_RVB"/>
          <p:cNvPicPr/>
          <p:nvPr/>
        </p:nvPicPr>
        <p:blipFill>
          <a:blip r:embed="rId1"/>
          <a:stretch/>
        </p:blipFill>
        <p:spPr>
          <a:xfrm>
            <a:off x="5003640" y="5977080"/>
            <a:ext cx="18338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A79E0-863A-4852-9131-655B3EC71398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28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Why new GPS Loggers?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st current loggers are in bad condi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mprove ballooning competition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Virtual marker drop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ly On task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top / reduce discussions about accurac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ate of the art GPS technology (SiRF III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ilot can view his logged posi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gger interval 1se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mplify logger handling in scoring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5B864-6A0E-4B01-BC06-81DC3C40D3E3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28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Key feature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lay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view scored position (in UTM or Long/Lat) and altitude (in feet or meters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Keypad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enter Fly On goals or drop marker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USB-Port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use logger as navigation device for the pilot’s laptop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D-Card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store the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gitally signed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rack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rial output for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elemetry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(live tracking/scoring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iRF III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GPS technolog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CAC5E-17F5-4EA7-BF7D-A63C55A70E3F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28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Prototyp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1" name="Picture 7" descr="Extracted2"/>
          <p:cNvPicPr/>
          <p:nvPr/>
        </p:nvPicPr>
        <p:blipFill>
          <a:blip r:embed="rId1"/>
          <a:stretch/>
        </p:blipFill>
        <p:spPr>
          <a:xfrm>
            <a:off x="611280" y="1989000"/>
            <a:ext cx="3633840" cy="3886200"/>
          </a:xfrm>
          <a:prstGeom prst="rect">
            <a:avLst/>
          </a:prstGeom>
          <a:ln w="0">
            <a:noFill/>
          </a:ln>
        </p:spPr>
      </p:pic>
      <p:sp>
        <p:nvSpPr>
          <p:cNvPr id="122" name="Line 10"/>
          <p:cNvSpPr/>
          <p:nvPr/>
        </p:nvSpPr>
        <p:spPr>
          <a:xfrm flipH="1">
            <a:off x="2843280" y="1268280"/>
            <a:ext cx="2016000" cy="79236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1"/>
          <p:cNvSpPr/>
          <p:nvPr/>
        </p:nvSpPr>
        <p:spPr>
          <a:xfrm flipH="1">
            <a:off x="1403280" y="1844640"/>
            <a:ext cx="3456000" cy="165564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>
            <a:off x="2556000" y="2421000"/>
            <a:ext cx="2303280" cy="115236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H="1">
            <a:off x="2484000" y="3573360"/>
            <a:ext cx="2374920" cy="151128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5"/>
          <p:cNvSpPr/>
          <p:nvPr/>
        </p:nvSpPr>
        <p:spPr>
          <a:xfrm flipH="1">
            <a:off x="2050560" y="2997360"/>
            <a:ext cx="2808360" cy="115236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6"/>
          <p:cNvSpPr/>
          <p:nvPr/>
        </p:nvSpPr>
        <p:spPr>
          <a:xfrm flipH="1">
            <a:off x="4140000" y="4149720"/>
            <a:ext cx="718920" cy="79200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4860720" y="10526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SiRF III GPS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8"/>
          <p:cNvSpPr/>
          <p:nvPr/>
        </p:nvSpPr>
        <p:spPr>
          <a:xfrm>
            <a:off x="4861800" y="162864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SD-Card sl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0"/>
          <p:cNvSpPr/>
          <p:nvPr/>
        </p:nvSpPr>
        <p:spPr>
          <a:xfrm>
            <a:off x="4863240" y="220500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4-lines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1"/>
          <p:cNvSpPr/>
          <p:nvPr/>
        </p:nvSpPr>
        <p:spPr>
          <a:xfrm>
            <a:off x="4863240" y="2781360"/>
            <a:ext cx="24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AVR32 Micro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2"/>
          <p:cNvSpPr/>
          <p:nvPr/>
        </p:nvSpPr>
        <p:spPr>
          <a:xfrm>
            <a:off x="4861080" y="335772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Bat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3"/>
          <p:cNvSpPr/>
          <p:nvPr/>
        </p:nvSpPr>
        <p:spPr>
          <a:xfrm>
            <a:off x="4862160" y="393372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Key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4" descr="Extracted"/>
          <p:cNvPicPr/>
          <p:nvPr/>
        </p:nvPicPr>
        <p:blipFill>
          <a:blip r:embed="rId2"/>
          <a:stretch/>
        </p:blipFill>
        <p:spPr>
          <a:xfrm>
            <a:off x="6772320" y="3284640"/>
            <a:ext cx="2044800" cy="25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Date Placeholder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6C571-B1FA-4CAF-937E-8548D0CC4404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28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Progres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iscussions at CIA Conference 2007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ts of talks in summer 2007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ystem desig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totype developme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sted different GPS receivers (approx. 20 flights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PS logger repor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oking for a production partn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39" name="Picture 7" descr="IMG_0805"/>
          <p:cNvPicPr/>
          <p:nvPr/>
        </p:nvPicPr>
        <p:blipFill>
          <a:blip r:embed="rId1"/>
          <a:stretch/>
        </p:blipFill>
        <p:spPr>
          <a:xfrm>
            <a:off x="5003640" y="4005360"/>
            <a:ext cx="3265560" cy="2176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IMG_0726"/>
          <p:cNvPicPr/>
          <p:nvPr/>
        </p:nvPicPr>
        <p:blipFill>
          <a:blip r:embed="rId2"/>
          <a:stretch/>
        </p:blipFill>
        <p:spPr>
          <a:xfrm>
            <a:off x="5364000" y="692280"/>
            <a:ext cx="252900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86D23-57CD-4AF3-B6E0-165F077E7BF2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28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Cost / Production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 Narrow"/>
              </a:rPr>
              <a:t>Production partner not yet defined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 Narrow"/>
              </a:rPr>
              <a:t>Cost per device estimation: 600 - 1000 €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 Narrow"/>
              </a:rPr>
              <a:t>Build at least 100 devices as soon as possibl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4827F-EB44-40C4-8B00-1329C1C8B60C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28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ecide on financing model / find investo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uild a second prototype based on custom electronics and chassis until Jun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est in several even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roduction of series zero after summ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re units available by summer 2009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imetable is depends on financing solution!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5000" spc="-1" strike="noStrike">
                <a:solidFill>
                  <a:srgbClr val="ffffff"/>
                </a:solidFill>
                <a:latin typeface="Arial Narrow"/>
              </a:rPr>
              <a:t>Backup</a:t>
            </a:r>
            <a:endParaRPr b="0" lang="en-US" sz="5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3D186-4001-4C07-80C3-61317BDE32FC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28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About André-Netlin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Lukas André, MSc BA Uni Ber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Marc André, MSc ETH E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ndré-Netline has been developing custom software for more than 10 year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xperienced in ballooning competition as team member and scoring officials (national and international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5T13:07:08Z</dcterms:created>
  <dc:creator>Lukas André</dc:creator>
  <dc:description/>
  <dc:language>en-US</dc:language>
  <cp:lastModifiedBy>Claude Weber</cp:lastModifiedBy>
  <dcterms:modified xsi:type="dcterms:W3CDTF">2008-03-07T10:58:15Z</dcterms:modified>
  <cp:revision>60</cp:revision>
  <dc:subject/>
  <dc:title>In and ou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